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09B-FE1E-42E3-A6FD-5E6AE36B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3D71-8592-483F-A138-9601C731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9533-CEC8-4EFD-B707-7563174D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280-39E0-4455-846E-A6A08695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75BD-4962-47B2-95E7-22B0F36B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A861-C384-4FAA-A0B0-15FB74D3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6328-400B-4CD7-BD95-42B4538E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22C-7DFE-484D-AF16-8B126A83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DEF-777E-4628-B332-14297B82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E2A5-D751-45E6-BCA0-4AD54A1D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555-E752-4113-B2DF-8F9341E9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BC6-C2A0-465E-B815-3F5DE410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396B-9572-41C8-88C4-137E6CDEB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youtube.com/watch?v=cGIpuZEb134&amp;eurl=http%3A%2F%2Fprojectconnect-sexualorientation.wikispaces.com%2FVideos&amp;feature=player_embedded" TargetMode="External"/><Relationship Id="rId3" Type="http://schemas.openxmlformats.org/officeDocument/2006/relationships/hyperlink" Target="http://www.youtube.com/watch?v=HJ9zOAN8YOE&amp;eurl=http%3A%2F%2Fprojectconnect-sexualorientation.wikispaces.com%2FVideos&amp;feature=player_embedded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rdiaz@irvingisd.net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ithaca.edu/wise/topics/sexual_orientation.htm" TargetMode="External"/><Relationship Id="rId2" Type="http://schemas.openxmlformats.org/officeDocument/2006/relationships/hyperlink" Target="http://www.glsen.org/binary-data/GLSEN_ATTACHMENTS/file/300-3.PDF" TargetMode="External"/><Relationship Id="rId3" Type="http://schemas.openxmlformats.org/officeDocument/2006/relationships/hyperlink" Target="http://www.glsen.org/binary-data/GLSEN_ATTACHMENTS/file/300-3.PDF" TargetMode="External"/><Relationship Id="rId4" Type="http://schemas.openxmlformats.org/officeDocument/2006/relationships/hyperlink" Target="http://www.glsen.org/cgi-bin/iowa/all/home/index.html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818640"/>
            <a:ext cx="7924680" cy="24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radley Hand ITC"/>
              </a:rPr>
              <a:t>HOT TOPICS</a:t>
            </a:r>
            <a:br>
              <a:rPr sz="5700"/>
            </a:br>
            <a:br>
              <a:rPr sz="57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xual Ori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rett Gray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osalinda Rami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achel Sanch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Gay G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many believe that people are born with homosexual gene (NATUR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many believe that people choose to be homosexual (NURTURE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oes the environment play a role in sexual orient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eorgia"/>
              </a:rPr>
              <a:t>Mental Disord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sychiatrists used to believe that it was a mental disor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957, tests were performed exploring the relationship between homosexuality and psychological development and il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nce the mid-1970’s, it has NOT been supported by health professional organiz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Research on the Bra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waab’s experiment (1990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document of a gay man’s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nd hypothalamus structure of the brain was different from heterosexual man to a homosexual m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waab research was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dismissed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due to testing done only to homosexual men’s br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eorgia"/>
              </a:rPr>
              <a:t>Hypothalamu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unction: Directly related to sexual drive and hormone reg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rogen: Male Developed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strogen: Female Developed Characteristics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omosexual men and heterosexual women have similar results in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at Studies s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drogen injected to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emal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rats cause those rats to exhibit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al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ymptoms of att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3886200" cy="55627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More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an Hamer: X-linked 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5 genetic marker on the X chromosome (Xq2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mon LeVa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mygdal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same size in females and homosexual 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2590560" cy="50292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NURT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mosexuality is identified not by a trait or gene, but rather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y their action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mosexuality is innat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ould merely having the “gay” gene force one to carry out the responsible for homosexual 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Beginning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hildhood play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arly peer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rent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ole of gender constancy in the h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 enduring emotional, romantic, sexual, or affection attraction that a person feels toward another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velops across a person’s lifetime, which develop at different points in thei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f today, the Human Genome Project have sequenced the X and Y chromos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1168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, 251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the map for the X nor the Y chromosome contain any “gay ge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ear of “Coming Ou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ear of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ear of Stigma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ack of Family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isk of harassment or get hu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Outcas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HBO Real Sports produced this story of Greg Congdon, a stand-out high school football player in Troy, PA.  Greg came out of the closet during his junior year… (200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http://www.youtube.com/watch?v=cGIpuZEb134&amp;eurl=http%3A%2F%2Fprojectconnect-sexualorientation.wikispaces.com%2FVideos&amp;feature=player_embe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3"/>
              </a:rPr>
              <a:t>http://www.youtube.com/watch?v=HJ9zOAN8YOE&amp;eurl=http%3A%2F%2Fprojectconnect-sexualorientation.wikispaces.com%2FVideos&amp;feature=player_embedde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hese videos can also be found on our group’s web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oming Out”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rom bottom to top, the order of who typically hears the announ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204640" y="1836360"/>
            <a:ext cx="4735440" cy="4022640"/>
            <a:chOff x="2204640" y="1836360"/>
            <a:chExt cx="4735440" cy="4022640"/>
          </a:xfrm>
        </p:grpSpPr>
        <p:sp>
          <p:nvSpPr>
            <p:cNvPr id="86" name="_s36869"/>
            <p:cNvSpPr/>
            <p:nvPr/>
          </p:nvSpPr>
          <p:spPr>
            <a:xfrm flipV="1">
              <a:off x="3981600" y="1836360"/>
              <a:ext cx="1181520" cy="1005120"/>
            </a:xfrm>
            <a:custGeom>
              <a:avLst/>
              <a:gdLst>
                <a:gd name="textAreaLeft" fmla="*/ 423720 w 1181520"/>
                <a:gd name="textAreaRight" fmla="*/ 757800 w 1181520"/>
                <a:gd name="textAreaTop" fmla="*/ 360720 h 1005120"/>
                <a:gd name="textAreaBottom" fmla="*/ 64440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36870"/>
            <p:cNvSpPr/>
            <p:nvPr/>
          </p:nvSpPr>
          <p:spPr>
            <a:xfrm flipV="1">
              <a:off x="3388680" y="2840760"/>
              <a:ext cx="2367360" cy="1006920"/>
            </a:xfrm>
            <a:custGeom>
              <a:avLst/>
              <a:gdLst>
                <a:gd name="textAreaLeft" fmla="*/ 520560 w 2367360"/>
                <a:gd name="textAreaRight" fmla="*/ 1846800 w 2367360"/>
                <a:gd name="textAreaTop" fmla="*/ 221400 h 1006920"/>
                <a:gd name="textAreaBottom" fmla="*/ 785520 h 10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se Fami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6871"/>
            <p:cNvSpPr/>
            <p:nvPr/>
          </p:nvSpPr>
          <p:spPr>
            <a:xfrm flipV="1">
              <a:off x="2796120" y="3848760"/>
              <a:ext cx="3553200" cy="1005120"/>
            </a:xfrm>
            <a:custGeom>
              <a:avLst/>
              <a:gdLst>
                <a:gd name="textAreaLeft" fmla="*/ 616680 w 3553200"/>
                <a:gd name="textAreaRight" fmla="*/ 2936520 w 3553200"/>
                <a:gd name="textAreaTop" fmla="*/ 174240 h 1005120"/>
                <a:gd name="textAreaBottom" fmla="*/ 83088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se Heterosexual Pe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36872"/>
            <p:cNvSpPr/>
            <p:nvPr/>
          </p:nvSpPr>
          <p:spPr>
            <a:xfrm flipV="1">
              <a:off x="2204640" y="4853880"/>
              <a:ext cx="4735440" cy="1005120"/>
            </a:xfrm>
            <a:custGeom>
              <a:avLst/>
              <a:gdLst>
                <a:gd name="textAreaLeft" fmla="*/ 712440 w 4735440"/>
                <a:gd name="textAreaRight" fmla="*/ 4023000 w 4735440"/>
                <a:gd name="textAreaTop" fmla="*/ 151200 h 1005120"/>
                <a:gd name="textAreaBottom" fmla="*/ 85392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ther Gay, Lesbian, Bisexual Pe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commenda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s Educator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What Schools and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Communities Can 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with anti-bullying policies must clarify that teasing and exclusion based on sexual orientation is prohibi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need to consider adding sexual orientation and gender identity to the school community that no one should be treated differently because of an admitted or presumed sexual ori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should train staff and volunteers on effective bullying prevention methods and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More to Consider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nderstand the nature of sexu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vide an accept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reat them with the same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dopt policies in districts and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upport student clubs, GSA (Gay Student Alli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Effects of Harassmen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ental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y are two to three times more likely to attempt suic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ften embarrassed/ashamed of being targeted, may not report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re likely to skip school due to fear, threats and property vandalism directed a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ecause of their absence they will have a result in low academics and low G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8% of gay student will drop out of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(normal rate is around 1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 out of 5 gay and lesbian students say they don’t know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upportive adul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t scho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Legal Principl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es the law say about homosexuality in public scho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urt Vi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es this mean to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the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e law s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udents are protected by the Establishment Clause o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Amendment, which, among many other things, requires the separation of church and sta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r example, public schools may not promote religion, endorse particular religious beliefs or seek to impose such beliefs on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, Lesbian, and bisexual students – like all other students, are also protected by the 1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Amendment’s requirment of equal treatment under the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Orientation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lease go to our group’s websit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426708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http://projectconnect-sexualorientation.wikispaces.com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lifornia Supreme Court rules that the state cannot revoke a gay teacher’s credentials on the basis of sexual ori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Circuit Court of Appeals establishes the rights of gay college student groups to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rules that Cumberland, R.I., high school student Aaron Fricke has the right to bring a same-sex date to the school’s p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.S. Supreme Court affirms a lower-court ruling in Oklahoma overturning a law against discussion of homosexuality in the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rules that a Kansas school board cannot ban the lesbian novel “Annie on My Min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ie Nabozny wins a settlement of over $900,000 after a federal jury finds that high school officials had failed to protect him from hara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in Salt Lake City rules that denying access to a gay-straight alliance violates the federal Equal Access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ssachusetts appeals court rules that a transgender junior high school student has the right to wear gender-specific cl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rcuit Court of Appeals says that school officials in California have a duty to protect gay students from hara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is mean to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 districts must protect student from anti-gay harassment just as it protects students from other kinds of harass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Jamie Nabozny won $900,000 because his district did not adhere to this princi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f a student wants to start a “Gay-Straight Alliance Club” it must be considered as equal status to any other club in the scho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ublic Schools may not disseminate info to students if the material is not adequately researched or scientifically bi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aramond"/>
              </a:rPr>
              <a:t>If you’re ever in doubt about how to teach any particular ‘hot topic’ or which materials to incorporate, you should contact your district’s legal counse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rving ISD’s legal couns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alph Dia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Administrative Assistant to the Superint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972.215.5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rdiaz@irvingisd.net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is mean to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ex Education" by Michael R. Stevens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cyclopedia of Lesbian, Gay, Bisexual and Transgendered History in America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chool Court Victories" by Don Romesburg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dvocat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2/20/2005 Issue 953, p8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the Facts about Sexual Orientation &amp; Youth: A Primer for Principals, Educators &amp; School Personnel,” by the American Psychological Association. 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utcast,” produced by Amani Martin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BO Real Sports with Bryant Gumbel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"Sexual Orientation" from WISE - Working to Improve Schools and Education</a:t>
            </a: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LSEN'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2003 National School Climate Surv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a full report of this annual study which documents issues many LGBT youth and professionals experience in schools -- also includes information about schools with effective policies and practices regarding issues of sexual orientation and harass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SEN: Gay, Lesbian, and Straight Educatio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glsen.org/cgi-bin/iowa/all/home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2003 National Schoo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te Surve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1523880"/>
          <a:ext cx="9067680" cy="5427720"/>
        </p:xfrm>
        <a:graphic>
          <a:graphicData uri="http://schemas.openxmlformats.org/drawingml/2006/table">
            <a:tbl>
              <a:tblPr/>
              <a:tblGrid>
                <a:gridCol w="3200400"/>
                <a:gridCol w="1625760"/>
                <a:gridCol w="1422360"/>
                <a:gridCol w="1752480"/>
                <a:gridCol w="1066680"/>
              </a:tblGrid>
              <a:tr h="93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Ques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requ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f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ometi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ar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“That’s so Gay” in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any kind of Homophobic Remark (combined hearing “that’s so gay” and other kinds of remark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Biased Language from Teachers or Other School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Intervention by Teachers or Other School Staff when biased remarks were mad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of th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2003 National Schoo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te Surve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447920"/>
          <a:ext cx="9143640" cy="5199120"/>
        </p:xfrm>
        <a:graphic>
          <a:graphicData uri="http://schemas.openxmlformats.org/drawingml/2006/table">
            <a:tbl>
              <a:tblPr/>
              <a:tblGrid>
                <a:gridCol w="3165840"/>
                <a:gridCol w="1777680"/>
                <a:gridCol w="1147320"/>
                <a:gridCol w="1869480"/>
                <a:gridCol w="118332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r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Verbal Harassment in the Past School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Physical Harassment in the Past School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 of Students who felt unsafe at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Missing Days of School in the Past Month Because of Feeling Unsafe or Uncomfor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or more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The Gay, Lesbian and Straight  Education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wo methods of survey used: Outreach through community-based groups serving LGBT youth and outreach via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sample consisted of a total of 6,209 LGBT K-12 students, from all 50 states and the District of Columbia, between the ages of 13 and 21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bout 2/3 of the sample (64.4%)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ver half (57.7%)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ver half identified as gay or lesbian (53.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grades 6 to 12, with the largest numbers being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or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Sexual Ori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am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Lesbian, Gay, Bisexual and Transgender Community Center (LGBT) founded in 19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 and Lesbian Independent School Teachers Network (GLSTN) founded in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-Straight Alliance (GSA) founded in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xual Ori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s. Sexual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Orientation is different from Sexu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Orientation can be kn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Gay, Lesbian, Bisex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cludes any type of sexual 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Behavior in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Greece, older men engages in same sex relationship with young bo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urpose: The transition from young boy to adulth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New Guinea, boys 8-15 are inseminated daily by the young make warriors of the tri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4:49:08Z</dcterms:created>
  <dc:creator>rsanchez1</dc:creator>
  <dc:description/>
  <dc:language>en-US</dc:language>
  <cp:lastModifiedBy>Irving ISD</cp:lastModifiedBy>
  <dcterms:modified xsi:type="dcterms:W3CDTF">2009-04-06T20:33:28Z</dcterms:modified>
  <cp:revision>36</cp:revision>
  <dc:subject/>
  <dc:title>Sexual Orientation</dc:title>
</cp:coreProperties>
</file>