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D38-7ADF-43FA-897B-040264F7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733-71F6-4F3D-A277-8131FD9E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E33-9B3D-41D7-A899-901CA366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ED8-F09D-45BB-B6B2-561BE5EB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0D6-D03E-4A98-BA8B-3DCE66EE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0B7-8BA9-467C-A688-260929A3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1D2-B0BE-4229-8F69-47808317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1B4-B772-4B0C-BEEB-ADF8A805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DB9-D448-491A-B343-781581FD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D2D-362E-4BE3-BAFA-4A2B177E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CD4-44CA-4599-8D75-EA902800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956-5A45-45B0-9C57-62896A8C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B218-C586-4182-8AF1-B3191B59D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cGIpuZEb134&amp;eurl=http%3A%2F%2Fprojectconnect-sexualorientation.wikispaces.com%2FVideos&amp;feature=player_embedded" TargetMode="External"/><Relationship Id="rId3" Type="http://schemas.openxmlformats.org/officeDocument/2006/relationships/hyperlink" Target="http://www.youtube.com/watch?v=HJ9zOAN8YOE&amp;eurl=http%3A%2F%2Fprojectconnect-sexualorientation.wikispaces.com%2FVideos&amp;feature=player_embedded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rdiaz@irvingisd.net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thaca.edu/wise/topics/sexual_orientation.htm" TargetMode="External"/><Relationship Id="rId2" Type="http://schemas.openxmlformats.org/officeDocument/2006/relationships/hyperlink" Target="http://www.glsen.org/binary-data/GLSEN_ATTACHMENTS/file/300-3.PDF" TargetMode="External"/><Relationship Id="rId3" Type="http://schemas.openxmlformats.org/officeDocument/2006/relationships/hyperlink" Target="http://www.glsen.org/binary-data/GLSEN_ATTACHMENTS/file/300-3.PDF" TargetMode="External"/><Relationship Id="rId4" Type="http://schemas.openxmlformats.org/officeDocument/2006/relationships/hyperlink" Target="http://www.glsen.org/cgi-bin/iowa/all/home/index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18640"/>
            <a:ext cx="79246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radley Hand ITC"/>
              </a:rPr>
              <a:t>HOT TOPICS</a:t>
            </a:r>
            <a:br>
              <a:rPr sz="5700"/>
            </a:br>
            <a:br>
              <a:rPr sz="57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ett Gra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salinda Rami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achel Sanch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ay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are born with homosexual gene (NATUR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choose to be homosexual (NURTUR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environment play a role in sexual ori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Mental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ychiatrists used to believe that it was a mental dis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957, tests were performed exploring the relationship between homosexuality and psychological development an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nce the mid-1970’s, it has NOT been supported by health professional organiz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esearch on the B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’s experiment (1990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document of a gay man’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nd hypothalamus structure of the brain was different from heterosexual man to a homosexual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 research wa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ismisse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due to testing done only to homosexual men’s b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Hypothalam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nction: Directly related to sexual drive and hormone reg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rogen: Male Develop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rogen: Female Developed Characteristic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mosexual men and heterosexual women have similar results in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t Studies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rogen injected to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ats cause those rats to exhibi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ymptoms of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62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More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an Hamer: X-linked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genetic marker on the X chromosome (Xq2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mon LeVa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ygdal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ame size in females and homosexual 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59056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dentified not by a trait or gene, but rather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their action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nnat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erely having the “gay” gene force one to carry out the responsible for homosexual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ginn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ildhood pla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arly pe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rent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le of gender constancy in the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enduring emotional, romantic, sexual, or affection attraction that a person feels toward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velops across a person’s lifetime, which develop at different points in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today, the Human Genome Project have sequenced the X and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1168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, 251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the map for the X nor the Y chromosome contain any “gay ge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ear of “Coming 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Stig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Family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isk of harassment or get h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Outca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HBO Real Sports produced this story of Greg Congdon, a stand-out high school football player in Troy, PA.  Greg came out of the closet during his junior year… (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youtube.com/watch?v=cGIpuZEb134&amp;eurl=http%3A%2F%2Fprojectconnect-sexualorientation.wikispaces.com%2FVideos&amp;feature=player_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youtube.com/watch?v=HJ9zOAN8YOE&amp;eurl=http%3A%2F%2Fprojectconnect-sexualorientation.wikispaces.com%2FVideos&amp;feature=player_embedde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se videos can also be found on our group’s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ing Out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om bottom to top, the order of who typically hears the annou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4640" y="1836360"/>
            <a:ext cx="4735440" cy="4022640"/>
            <a:chOff x="2204640" y="1836360"/>
            <a:chExt cx="4735440" cy="4022640"/>
          </a:xfrm>
        </p:grpSpPr>
        <p:sp>
          <p:nvSpPr>
            <p:cNvPr id="86" name="_s36869"/>
            <p:cNvSpPr/>
            <p:nvPr/>
          </p:nvSpPr>
          <p:spPr>
            <a:xfrm flipV="1">
              <a:off x="3981600" y="1836360"/>
              <a:ext cx="1181520" cy="1005120"/>
            </a:xfrm>
            <a:custGeom>
              <a:avLst/>
              <a:gdLst>
                <a:gd name="textAreaLeft" fmla="*/ 423720 w 1181520"/>
                <a:gd name="textAreaRight" fmla="*/ 757800 w 1181520"/>
                <a:gd name="textAreaTop" fmla="*/ 360720 h 1005120"/>
                <a:gd name="textAreaBottom" fmla="*/ 64440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6870"/>
            <p:cNvSpPr/>
            <p:nvPr/>
          </p:nvSpPr>
          <p:spPr>
            <a:xfrm flipV="1">
              <a:off x="3388680" y="2840760"/>
              <a:ext cx="2367360" cy="1006920"/>
            </a:xfrm>
            <a:custGeom>
              <a:avLst/>
              <a:gdLst>
                <a:gd name="textAreaLeft" fmla="*/ 520560 w 2367360"/>
                <a:gd name="textAreaRight" fmla="*/ 1846800 w 2367360"/>
                <a:gd name="textAreaTop" fmla="*/ 221400 h 1006920"/>
                <a:gd name="textAreaBottom" fmla="*/ 785520 h 10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Fami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6871"/>
            <p:cNvSpPr/>
            <p:nvPr/>
          </p:nvSpPr>
          <p:spPr>
            <a:xfrm flipV="1">
              <a:off x="2796120" y="3848760"/>
              <a:ext cx="3553200" cy="1005120"/>
            </a:xfrm>
            <a:custGeom>
              <a:avLst/>
              <a:gdLst>
                <a:gd name="textAreaLeft" fmla="*/ 616680 w 3553200"/>
                <a:gd name="textAreaRight" fmla="*/ 2936520 w 3553200"/>
                <a:gd name="textAreaTop" fmla="*/ 174240 h 1005120"/>
                <a:gd name="textAreaBottom" fmla="*/ 83088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Hetero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6872"/>
            <p:cNvSpPr/>
            <p:nvPr/>
          </p:nvSpPr>
          <p:spPr>
            <a:xfrm flipV="1">
              <a:off x="2204640" y="4853880"/>
              <a:ext cx="4735440" cy="1005120"/>
            </a:xfrm>
            <a:custGeom>
              <a:avLst/>
              <a:gdLst>
                <a:gd name="textAreaLeft" fmla="*/ 712440 w 4735440"/>
                <a:gd name="textAreaRight" fmla="*/ 4023000 w 4735440"/>
                <a:gd name="textAreaTop" fmla="*/ 151200 h 1005120"/>
                <a:gd name="textAreaBottom" fmla="*/ 85392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Gay, Lesbian, Bi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ommend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 Educ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What Schools an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Communities Can 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with anti-bullying policies must clarify that teasing and exclusion based on sexual orientation is prohib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need to consider adding sexual orientation and gender identity to the school community that no one should be treated differently because of an admitted or presumed sexu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should train staff and volunteers on effective bullying prevention method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More to Consid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derstand the nature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vide an accep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eat them with the sa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opt policies in districts and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pport student clubs, GSA (Gay Student Al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Effects of Harass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two to three times more likely to attempt suic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ften embarrassed/ashamed of being targeted, may not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e likely to skip school due to fear, threats and property vandalism directed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cause of their absence they will have a result in low academics and low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8% of gay student will drop out of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normal rate is around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out of 5 gay and lesbian students say they don’t know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pportive adul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Legal Princip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e law say about homosexuality in public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rt Vi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is mean to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e law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are protected by the Establishment Claus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, which, among many other things, requires the separation of church and st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, public schools may not promote religion, endorse particular religious beliefs or seek to impose such beliefs on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, Lesbian, and bisexual students – like all other students, are also protected by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’s requirment of equal treatment under th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lease go to our group’s websi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26708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ttp://projectconnect-sexualorientation.wikispa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ifornia Supreme Court rules that the state cannot revoke a gay teacher’s credentials on the basis of sexual ori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Circuit Court of Appeals establishes the rights of gay college student groups to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Cumberland, R.I., high school student Aaron Fricke has the right to bring a same-sex date to the school’s p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Supreme Court affirms a lower-court ruling in Oklahoma overturning a law against discussion of homosexuality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a Kansas school board cannot ban the lesbian novel “Annie on My Mi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Nabozny wins a settlement of over $900,000 after a federal jury finds that high school officials had failed to protect him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in Salt Lake City rules that denying access to a gay-straight alliance violates the federal Equal Acces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ssachusetts appeals court rules that a transgender junior high school student has the right to wear gender-specific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 Court of Appeals says that school officials in California have a duty to protect gay students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 districts must protect student from anti-gay harassment just as it protects students from other kinds of hara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mie Nabozny won $900,000 because his district did not adhere to this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f a student wants to start a “Gay-Straight Alliance Club” it must be considered as equal status to any other club in th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blic Schools may not disseminate info to students if the material is not adequately researched or scientifically bi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If you’re ever in doubt about how to teach any particular ‘hot topic’ or which materials to incorporate, you should contact your district’s legal couns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rving ISD’s legal couns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lph Di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dministrative Assistant to the Superint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972.215.5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rdiaz@irvingisd.net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ex Education" by Michael R. Steven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yclopedia of Lesbian, Gay, Bisexual and Transgendered History in Americ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chool Court Victories" by Don Romesbur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voc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/20/2005 Issue 953, p8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he Facts about Sexual Orientation &amp; Youth: A Primer for Principals, Educators &amp; School Personnel,” by the American Psychological Association. 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cast,” produced by Amani Mart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BO Real Sports with Bryant Gumbel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exual Orientation" from WISE - Working to Improve Schools and Education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SEN'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2003 National School Climate Surv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full report of this annual study which documents issues many LGBT youth and professionals experience in schools -- also includes information about schools with effective policies and practices regarding issues of sexual orientation and hara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EN: Gay, Lesbian, and Straight Educ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lsen.org/cgi-bin/iowa/all/home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3880"/>
          <a:ext cx="9067680" cy="5427720"/>
        </p:xfrm>
        <a:graphic>
          <a:graphicData uri="http://schemas.openxmlformats.org/drawingml/2006/table">
            <a:tbl>
              <a:tblPr/>
              <a:tblGrid>
                <a:gridCol w="3200400"/>
                <a:gridCol w="1625760"/>
                <a:gridCol w="1422360"/>
                <a:gridCol w="1752480"/>
                <a:gridCol w="106668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“That’s so Gay” in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any kind of Homophobic Remark (combined hearing “that’s so gay” and other kinds of rema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Biased Language from Teachers or Other Schoo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Intervention by Teachers or Other School Staff when biased remarks were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47920"/>
          <a:ext cx="9143640" cy="5199120"/>
        </p:xfrm>
        <a:graphic>
          <a:graphicData uri="http://schemas.openxmlformats.org/drawingml/2006/table">
            <a:tbl>
              <a:tblPr/>
              <a:tblGrid>
                <a:gridCol w="3165840"/>
                <a:gridCol w="1777680"/>
                <a:gridCol w="1147320"/>
                <a:gridCol w="1869480"/>
                <a:gridCol w="118332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Verb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Physic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Students who felt unsafe at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Missing Days of School in the Past Month Because of Feeling Unsafe or Uncomfor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r more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Gay, Lesbian and Straight  Educatio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wo methods of survey used: Outreach through community-based groups serving LGBT youth and outreach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ample consisted of a total of 6,209 LGBT K-12 students, from all 50 states and the District of Columbia, between the ages of 13 and 2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bout 2/3 of the sample (64.4%)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(57.7%)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identified as gay or lesbian (53.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grades 6 to 12, with the largest numbers being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am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Lesbian, Gay, Bisexual and Transgender Community Center (LGBT) founded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 and Lesbian Independent School Teachers Network (GLSTN) found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-Straight Alliance (GSA) founded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. Sexual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is different from 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can be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y, Lesbian, Bi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cludes any type of sexual 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Behavior in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Greece, older men engages in same sex relationship with young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rpose: The transition from young boy to adult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New Guinea, boys 8-15 are inseminated daily by the young make warriors of the tri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49:08Z</dcterms:created>
  <dc:creator>rsanchez1</dc:creator>
  <dc:description/>
  <dc:language>en-US</dc:language>
  <cp:lastModifiedBy>Irving ISD</cp:lastModifiedBy>
  <dcterms:modified xsi:type="dcterms:W3CDTF">2009-04-06T20:33:28Z</dcterms:modified>
  <cp:revision>36</cp:revision>
  <dc:subject/>
  <dc:title>Sexual Orientation</dc:title>
</cp:coreProperties>
</file>