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D9C6C-FF4A-458F-BB7A-0A1BC34E2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389E0-C7E7-42F2-996A-F358A1C85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2E93C-0BCE-4DC3-A3CE-B2CDBE9D9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3487C-ADA5-4AB0-B9A1-08D216BD0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DDB5F-9B3A-48C4-8DAB-70923E190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E35B0-6B11-4D6C-9AB4-2011B12F5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08501-7D76-4B2B-9947-270728980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41EEA-2D0C-4BEF-96C0-D84A4B112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8464C-5705-47F3-BEA3-10F162777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CC7E4-CFED-42E6-B6ED-533F7A664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4A6D4-3390-4146-AB81-E6F6D0FAC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25F32-AB28-4062-9772-425C954CD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EF401-4472-41B2-83CE-62F0EF4A03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youtube.com/watch?v=cGIpuZEb134&amp;eurl=http%3A%2F%2Fprojectconnect-sexualorientation.wikispaces.com%2FVideos&amp;feature=player_embedded" TargetMode="External"/><Relationship Id="rId3" Type="http://schemas.openxmlformats.org/officeDocument/2006/relationships/hyperlink" Target="http://www.youtube.com/watch?v=HJ9zOAN8YOE&amp;eurl=http%3A%2F%2Fprojectconnect-sexualorientation.wikispaces.com%2FVideos&amp;feature=player_embedded" TargetMode="External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hyperlink" Target="mailto:rdiaz@irvingisd.net" TargetMode="External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http://www.ithaca.edu/wise/topics/sexual_orientation.htm" TargetMode="External"/><Relationship Id="rId2" Type="http://schemas.openxmlformats.org/officeDocument/2006/relationships/hyperlink" Target="http://www.glsen.org/binary-data/GLSEN_ATTACHMENTS/file/300-3.PDF" TargetMode="External"/><Relationship Id="rId3" Type="http://schemas.openxmlformats.org/officeDocument/2006/relationships/hyperlink" Target="http://www.glsen.org/binary-data/GLSEN_ATTACHMENTS/file/300-3.PDF" TargetMode="External"/><Relationship Id="rId4" Type="http://schemas.openxmlformats.org/officeDocument/2006/relationships/hyperlink" Target="http://www.glsen.org/cgi-bin/iowa/all/home/index.html" TargetMode="External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818640"/>
            <a:ext cx="7924680" cy="24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700" spc="-1" strike="noStrike">
                <a:solidFill>
                  <a:srgbClr val="000000"/>
                </a:solidFill>
                <a:latin typeface="Bradley Hand ITC"/>
              </a:rPr>
              <a:t>HOT TOPICS</a:t>
            </a:r>
            <a:br>
              <a:rPr sz="5700"/>
            </a:br>
            <a:br>
              <a:rPr sz="5700"/>
            </a:b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Sexual Orien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Brett Gray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Rosalinda Ramire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Rachel Sanche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randomBa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Gay Ge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How many believe that people are born with homosexual gene (NATURE)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How many believe that people choose to be homosexual (NURTURE)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Does the environment play a role in sexual orientation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randomBar dir="vert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5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7200" y="2590920"/>
            <a:ext cx="8229600" cy="35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NATUR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randomBar dir="vert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Georgia"/>
              </a:rPr>
              <a:t>Mental Disorder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Psychiatrists used to believe that it was a mental disord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1957, tests were performed exploring the relationship between homosexuality and psychological development and illn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ince the mid-1970’s, it has NOT been supported by health professional organization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randomBar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Georgia"/>
              </a:rPr>
              <a:t>Research on the Brai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waab’s experiment (1990)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Garamond"/>
              </a:rPr>
              <a:t>st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document of a gay man’s b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Found hypothalamus structure of the brain was different from heterosexual man to a homosexual ma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waab research was </a:t>
            </a: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dismissed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 due to testing done only to homosexual men’s brai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randomBar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Georgia"/>
              </a:rPr>
              <a:t>Hypothalamu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unction: Directly related to sexual drive and hormone regul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Androgen: Male Developed Characteris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Estrogen: Female Developed Characteristics 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randomBar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48320" y="609480"/>
            <a:ext cx="403848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Homosexual men and heterosexual women have similar results in hormo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Rat Studies show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Androgen injected to </a:t>
            </a: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female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rats cause those rats to exhibit </a:t>
            </a: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male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symptoms of attra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457200" y="457200"/>
            <a:ext cx="3886200" cy="5562720"/>
          </a:xfrm>
          <a:prstGeom prst="rect">
            <a:avLst/>
          </a:prstGeom>
          <a:ln w="0">
            <a:noFill/>
          </a:ln>
        </p:spPr>
      </p:pic>
    </p:spTree>
  </p:cSld>
  <p:transition spd="med" advTm="2000">
    <p:randomBar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Georgia"/>
              </a:rPr>
              <a:t>More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Dean Hamer: X-linked tra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5 genetic marker on the X chromosome (Xq28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imon LeVay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amygdala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same size in females and homosexual ma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1219320" y="1676520"/>
            <a:ext cx="2590560" cy="5029200"/>
          </a:xfrm>
          <a:prstGeom prst="rect">
            <a:avLst/>
          </a:prstGeom>
          <a:ln w="0">
            <a:noFill/>
          </a:ln>
        </p:spPr>
      </p:pic>
    </p:spTree>
  </p:cSld>
  <p:transition spd="med" advTm="2000">
    <p:randomBar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7200" y="2438280"/>
            <a:ext cx="8229600" cy="368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NURTUR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randomBar dir="vert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Homosexuality is identified not by a trait or gene, but rather </a:t>
            </a: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by their actions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IF 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homosexuality is innate 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Would merely having the “gay” gene force one to carry out the responsible for homosexual actio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randomBar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Beginning Patter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hildhood play patte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Early peer inter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Parental behavi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Role of gender constancy in the ho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Sexual Ori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An enduring emotional, romantic, sexual, or affection attraction that a person feels toward another pers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Develops across a person’s lifetime, which develop at different points in their liv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1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10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of today, the Human Genome Project have sequenced the X and Y chromoso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, 1168 ge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, 251 ge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ither the map for the X nor the Y chromosome contain any “gay gen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randomBar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Fear of “Coming Out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ear of Iso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ear of Stigmat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Lack of Family Suppor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Risk of harassment or get hur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randomBar dir="vert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The Outcast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HBO Real Sports produced this story of Greg Congdon, a stand-out high school football player in Troy, PA.  Greg came out of the closet during his junior year… (2002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Garamond"/>
                <a:hlinkClick r:id="rId2"/>
              </a:rPr>
              <a:t>http://www.youtube.com/watch?v=cGIpuZEb134&amp;eurl=http%3A%2F%2Fprojectconnect-sexualorientation.wikispaces.com%2FVideos&amp;feature=player_embed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A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Garamond"/>
                <a:hlinkClick r:id="rId3"/>
              </a:rPr>
              <a:t>http://www.youtube.com/watch?v=HJ9zOAN8YOE&amp;eurl=http%3A%2F%2Fprojectconnect-sexualorientation.wikispaces.com%2FVideos&amp;feature=player_embedded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These videos can also be found on our group’s websi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randomBar dir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“</a:t>
            </a: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Coming Out”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From bottom to top, the order of who typically hears the announce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2204640" y="1836360"/>
            <a:ext cx="4735440" cy="4022640"/>
            <a:chOff x="2204640" y="1836360"/>
            <a:chExt cx="4735440" cy="4022640"/>
          </a:xfrm>
        </p:grpSpPr>
        <p:sp>
          <p:nvSpPr>
            <p:cNvPr id="86" name="_s36869"/>
            <p:cNvSpPr/>
            <p:nvPr/>
          </p:nvSpPr>
          <p:spPr>
            <a:xfrm flipV="1">
              <a:off x="3981600" y="1836360"/>
              <a:ext cx="1181520" cy="1005120"/>
            </a:xfrm>
            <a:custGeom>
              <a:avLst/>
              <a:gdLst>
                <a:gd name="textAreaLeft" fmla="*/ 423720 w 1181520"/>
                <a:gd name="textAreaRight" fmla="*/ 757800 w 1181520"/>
                <a:gd name="textAreaTop" fmla="*/ 360720 h 1005120"/>
                <a:gd name="textAreaBottom" fmla="*/ 644400 h 100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bbe0e3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arent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_s36870"/>
            <p:cNvSpPr/>
            <p:nvPr/>
          </p:nvSpPr>
          <p:spPr>
            <a:xfrm flipV="1">
              <a:off x="3388680" y="2840760"/>
              <a:ext cx="2367360" cy="1006920"/>
            </a:xfrm>
            <a:custGeom>
              <a:avLst/>
              <a:gdLst>
                <a:gd name="textAreaLeft" fmla="*/ 520560 w 2367360"/>
                <a:gd name="textAreaRight" fmla="*/ 1846800 w 2367360"/>
                <a:gd name="textAreaTop" fmla="*/ 221400 h 1006920"/>
                <a:gd name="textAreaBottom" fmla="*/ 785520 h 1006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bbe0e3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lose Famil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ember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_s36871"/>
            <p:cNvSpPr/>
            <p:nvPr/>
          </p:nvSpPr>
          <p:spPr>
            <a:xfrm flipV="1">
              <a:off x="2796120" y="3848760"/>
              <a:ext cx="3553200" cy="1005120"/>
            </a:xfrm>
            <a:custGeom>
              <a:avLst/>
              <a:gdLst>
                <a:gd name="textAreaLeft" fmla="*/ 616680 w 3553200"/>
                <a:gd name="textAreaRight" fmla="*/ 2936520 w 3553200"/>
                <a:gd name="textAreaTop" fmla="*/ 174240 h 1005120"/>
                <a:gd name="textAreaBottom" fmla="*/ 830880 h 100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bbe0e3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lose Heterosexual Peer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_s36872"/>
            <p:cNvSpPr/>
            <p:nvPr/>
          </p:nvSpPr>
          <p:spPr>
            <a:xfrm flipV="1">
              <a:off x="2204640" y="4853880"/>
              <a:ext cx="4735440" cy="1005120"/>
            </a:xfrm>
            <a:custGeom>
              <a:avLst/>
              <a:gdLst>
                <a:gd name="textAreaLeft" fmla="*/ 712440 w 4735440"/>
                <a:gd name="textAreaRight" fmla="*/ 4023000 w 4735440"/>
                <a:gd name="textAreaTop" fmla="*/ 151200 h 1005120"/>
                <a:gd name="textAreaBottom" fmla="*/ 853920 h 100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bbe0e3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Other Gay, Lesbian, Bisexual Peer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 advTm="2000">
    <p:randomBar dir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Recommendation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&amp;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As Educators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randomBar dir="vert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Georgia"/>
              </a:rPr>
              <a:t>What Schools and 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Georgia"/>
              </a:rPr>
              <a:t>Communities Can D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8991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chools with anti-bullying policies must clarify that teasing and exclusion based on sexual orientation is prohibi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chools need to consider adding sexual orientation and gender identity to the school community that no one should be treated differently because of an admitted or presumed sexual orient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chools should train staff and volunteers on effective bullying prevention methods and interven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randomBar dir="vert"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7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2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7" dur="5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Georgia"/>
              </a:rPr>
              <a:t>More to Consider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Understand the nature of sexual ori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Provide an accepting enviro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Treat them with the same equ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Adopt policies in districts and sch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upport student clubs, GSA (Gay Student Allianc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randomBar dir="vert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4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9" dur="5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4" dur="5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9" dur="500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4" dur="500"/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Georgia"/>
              </a:rPr>
              <a:t>Effects of Harassment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Mental Heal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They are two to three times more likely to attempt suici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Edu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Often embarrassed/ashamed of being targeted, may not report ab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More likely to skip school due to fear, threats and property vandalism directed at th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-1987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Because of their absence they will have a result in low academics and low GP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28% of gay student will drop out of schoo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-1987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(normal rate is around 10%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4 out of 5 gay and lesbian students say they don’t know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supportive adult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at schoo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randomBar dir="vert"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1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4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9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2" dur="5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5" dur="500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8" dur="500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1" dur="500"/>
                                        <p:tgtEl>
                                          <p:spTgt spid="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4" dur="500"/>
                                        <p:tgtEl>
                                          <p:spTgt spid="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7" dur="500"/>
                                        <p:tgtEl>
                                          <p:spTgt spid="9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0c4f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Georgia"/>
              </a:rPr>
              <a:t>Legal Principles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What does the law say about homosexuality in public school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ourt Vi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What does this mean to </a:t>
            </a: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you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, the teach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randomBar dir="vert"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4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9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4" dur="500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0c4f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eorgia"/>
              </a:rPr>
              <a:t>What does the law s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tudents are protected by the Establishment Clause of th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Garamond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 Amendment, which, among many other things, requires the separation of church and state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For example, public schools may not promote religion, endorse particular religious beliefs or seek to impose such beliefs on stud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Gay, Lesbian, and bisexual students – like all other students, are also protected by the 14</a:t>
            </a:r>
            <a:r>
              <a:rPr b="0" lang="en-US" sz="3200" spc="-1" strike="noStrike" baseline="30000">
                <a:solidFill>
                  <a:srgbClr val="000000"/>
                </a:solidFill>
                <a:latin typeface="Garamond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 Amendment’s requirment of equal treatment under the la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randomBar dir="vert"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1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4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9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Sexual Orientation Surve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Please go to our group’s website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52280" y="4267080"/>
            <a:ext cx="8686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eorgia"/>
              </a:rPr>
              <a:t>http://projectconnect-sexualorientation.wikispaces.com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randomBar dir="ver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0c4f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eorgia"/>
              </a:rPr>
              <a:t>Progress made in the court system 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Georgia"/>
              </a:rPr>
              <a:t>9 Major Court Victor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-711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96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alifornia Supreme Court rules that the state cannot revoke a gay teacher’s credentials on the basis of sexual ori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97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U.S. Circuit Court of Appeals establishes the rights of gay college student groups to ex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98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U.S. district court rules that Cumberland, R.I., high school student Aaron Fricke has the right to bring a same-sex date to the school’s pro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randomBar dir="vert"/>
  </p:transition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6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9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4" dur="5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7" dur="5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2" dur="500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5" dur="50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0c4f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0" y="1599840"/>
            <a:ext cx="9144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-711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romanU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98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.S. Supreme Court affirms a lower-court ruling in Oklahoma overturning a law against discussion of homosexuality in the classroo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romanU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99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U.S. district court rules that a Kansas school board cannot ban the lesbian novel “Annie on My Mind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romanU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9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mie Nabozny wins a settlement of over $900,000 after a federal jury finds that high school officials had failed to protect him from harass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eorgia"/>
              </a:rPr>
              <a:t>Progress made in the court system 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Georgia"/>
              </a:rPr>
              <a:t>9 Major Court Victor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randomBar dir="vert"/>
  </p:transition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2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5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0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3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8" dur="50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1" dur="500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0c4f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-711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romanU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9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U.S. district court in Salt Lake City rules that denying access to a gay-straight alliance violates the federal Equal Access La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romanU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Massachusetts appeals court rules that a transgender junior high school student has the right to wear gender-specific clo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romanU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0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9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ircuit Court of Appeals says that school officials in California have a duty to protect gay students from harass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eorgia"/>
              </a:rPr>
              <a:t>Progress made in the court system 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Georgia"/>
              </a:rPr>
              <a:t>9 Major Court Victor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randomBar dir="vert"/>
  </p:transition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1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6" dur="5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9" dur="5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4" dur="500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7" dur="500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0c4f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eorgia"/>
              </a:rPr>
              <a:t>What does this mean to </a:t>
            </a: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you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chool districts must protect student from anti-gay harassment just as it protects students from other kinds of harass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Jamie Nabozny won $900,000 because his district did not adhere to this princip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If a student wants to start a “Gay-Straight Alliance Club” it must be considered as equal status to any other club in the school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Public Schools may not disseminate info to students if the material is not adequately researched or scientifically bias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randomBar dir="ver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0c4f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Garamond"/>
              </a:rPr>
              <a:t>If you’re ever in doubt about how to teach any particular ‘hot topic’ or which materials to incorporate, you should contact your district’s legal counsel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Irving ISD’s legal counsel 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Ralph Diaz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Administrative Assistant to the Superintend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972.215.500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9999"/>
                </a:solidFill>
                <a:uFillTx/>
                <a:latin typeface="Garamond"/>
                <a:hlinkClick r:id="rId1"/>
              </a:rPr>
              <a:t>rdiaz@irvingisd.net</a:t>
            </a: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eorgia"/>
              </a:rPr>
              <a:t>What does this mean to </a:t>
            </a: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you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randomBar dir="ver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"Sex Education" by Michael R. Stevenson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ncyclopedia of Lesbian, Gay, Bisexual and Transgendered History in America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"School Court Victories" by Don Romesburg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he Advocate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12/20/2005 Issue 953, p8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st the Facts about Sexual Orientation &amp; Youth: A Primer for Principals, Educators &amp; School Personnel,” by the American Psychological Association.  200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Outcast,” produced by Amani Martin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HBO Real Sports with Bryant Gumbel,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07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"Sexual Orientation" from WISE - Working to Improve Schools and Education</a:t>
            </a:r>
            <a:br>
              <a:rPr sz="1800"/>
            </a:b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GLSEN's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 2003 National School Climate Surve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- a full report of this annual study which documents issues many LGBT youth and professionals experience in schools -- also includes information about schools with effective policies and practices regarding issues of sexual orientation and harassmen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SEN: Gay, Lesbian, and Straight Education Net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www.glsen.org/cgi-bin/iowa/all/home/index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2003 National Schoo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mate Survey Resul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0" y="1523880"/>
          <a:ext cx="9067680" cy="5427720"/>
        </p:xfrm>
        <a:graphic>
          <a:graphicData uri="http://schemas.openxmlformats.org/drawingml/2006/table">
            <a:tbl>
              <a:tblPr/>
              <a:tblGrid>
                <a:gridCol w="3200400"/>
                <a:gridCol w="1625760"/>
                <a:gridCol w="1422360"/>
                <a:gridCol w="1752480"/>
                <a:gridCol w="1066680"/>
              </a:tblGrid>
              <a:tr h="93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Ques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Frequentl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Oft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Sometim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Rarel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equency of Hearing “That’s so Gay” in Schoo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9.8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.4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equency of Hearing any kind of Homophobic Remark (combined hearing “that’s so gay” and other kinds of remark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.9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.7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.5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2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equency of Hearing Biased Language from Teachers or Other School Staf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.7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.3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equency of Intervention by Teachers or Other School Staff when biased remarks were mad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way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4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st of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Ti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.2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me of the Ti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8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v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.6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 advTm="2000">
    <p:randomBa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2003 National Schoo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mate Survey Resul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0" y="1447920"/>
          <a:ext cx="9143640" cy="5199120"/>
        </p:xfrm>
        <a:graphic>
          <a:graphicData uri="http://schemas.openxmlformats.org/drawingml/2006/table">
            <a:tbl>
              <a:tblPr/>
              <a:tblGrid>
                <a:gridCol w="3165840"/>
                <a:gridCol w="1777680"/>
                <a:gridCol w="1147320"/>
                <a:gridCol w="1869480"/>
                <a:gridCol w="1183320"/>
              </a:tblGrid>
              <a:tr h="68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es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equentl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ft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metim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rel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equency of Verbal Harassment in the Past School Ye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.2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.8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.1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.1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equency of Physical Harassment in the Past School Ye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7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4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.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centage of Students who felt unsafe at schoo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.8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8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equency of Missing Days of School in the Past Month Because of Feeling Unsafe or Uncomfor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or more day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1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-5 day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8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-3 day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8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da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1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day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.2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 advTm="2000"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eorgia"/>
              </a:rPr>
              <a:t>The Gay, Lesbian and Straight  Education Networ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Two methods of survey used: Outreach through community-based groups serving LGBT youth and outreach via Intern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The sample consisted of a total of 6,209 LGBT K-12 students, from all 50 states and the District of Columbia, between the ages of 13 and 21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About 2/3 of the sample (64.4%) wh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Over half (57.7%) fem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Over half identified as gay or lesbian (53.6%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tudents grades 6 to 12, with the largest numbers being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Garamond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or 1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Garamond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gra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randomBa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eorgia"/>
              </a:rPr>
              <a:t>Sexual Orientatio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Georgia"/>
              </a:rPr>
              <a:t>Program Histo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e Lesbian, Gay, Bisexual and Transgender Community Center (LGBT) founded in 198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Gay and Lesbian Independent School Teachers Network (GLSTN) founded in 199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Gay-Straight Alliance (GSA) founded in 199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randomBa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xual Orientatio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s. Sexual Behavi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xual Orientation is different from Sexual Behavi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xual Orientation can be known 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Gay, Lesbian, Bisexu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xual Behavi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Includes any type of sexual act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randomBar dir="vert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500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Sexual Behavior in Cul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In Greece, older men engages in same sex relationship with young boy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Purpose: The transition from young boy to adulthoo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In New Guinea, boys 8-15 are inseminated daily by the young make warriors of the trib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randomBar dir="vert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" dur="5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8T14:49:08Z</dcterms:created>
  <dc:creator>rsanchez1</dc:creator>
  <dc:description/>
  <dc:language>en-US</dc:language>
  <cp:lastModifiedBy>Irving ISD</cp:lastModifiedBy>
  <dcterms:modified xsi:type="dcterms:W3CDTF">2009-04-06T20:33:28Z</dcterms:modified>
  <cp:revision>36</cp:revision>
  <dc:subject/>
  <dc:title>Sexual Orientation</dc:title>
</cp:coreProperties>
</file>