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D7F3-510F-4485-91BA-67247C356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5FD4-E685-4F95-A5C0-94CE796B1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1D26-0919-4D36-83DF-EF795EDAB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79AF-6F21-4C43-A97B-D07A7C5E0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D9097-4A07-4C40-9736-E36C9F573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9551E-FE91-4D9F-8EF0-3D7D04E4E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83FAA-D307-4345-A73C-9748FAEB3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9DCE2-86F4-4381-B726-557BDF249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C3399-C7F6-41D6-80EC-922FFB50A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D5FBC-54DC-41C4-9AB2-44995AD6F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542C6-9CDF-42C9-95F0-E2909F75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8DEE-E4DD-412E-8C28-DDF80FC5A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D13DA-E70E-4F18-BADC-0DDFB4F9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6398C-DC54-4B59-B10F-6F1EFB3B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393E8-B406-4617-A563-87B7AF9C2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75CB0-2152-4A38-8006-3FA1F9C09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85F2B-D969-4D37-8C7D-E2C6B9B51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B8353-0FCE-4A66-BD65-0FA4A9CE6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05E1E-DEF0-45DF-9A02-9E055A5E8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81016-BD99-463C-B083-CBECAC4F5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F5B03-1A15-4D85-88A0-DD266BEB1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DFB74-72A8-4114-B7D5-149CAE25C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0372-8386-4EE8-BB36-1DE1A5EC5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C84EE-DC1B-4426-AF6A-DB90AB897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DF74C-8684-4DF3-9498-E131E281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2C24B-BE8B-443C-8A72-86AD86C0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AE28F-E7D2-4785-84BC-0C93FD61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D24A0-71E3-4FEA-847F-0A105458E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97E40-4A82-49F8-ABAD-F4CD2E3AB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338D9-9ADA-4229-A9EF-AD39DD87E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A19CE-5840-41FE-9A8F-8712BE857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D6C02-F443-4991-AA8F-20E9BC14F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E7917-7739-4165-99DF-720F3556B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2A24-D2A6-461C-AD1B-C61D562A8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D8BEF-0EBE-44DE-BF23-61E24E1FA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0EF9D-7EFC-482C-9EA0-5098FAFB9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68DD7-B3B2-4C30-801F-D219D623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57426-7DD2-4016-BD52-0BC4023E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B3171-C4D7-4665-B162-569D79E5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83ECA-7727-47BB-AEE6-9CD5DA3A6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64F0A-CEE8-4030-93AF-6F501A3B9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7BFEF-7175-4D91-8908-EA57BA55F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F62EF-B80E-4E75-AFE6-4EF35824E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06292-C72C-48CE-9D18-F53BAA13A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34E0-A530-4E98-8B8B-6B30474FD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B122D-F818-420F-BEE0-28ADB237E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D9B03-8764-4F1A-808B-DFD5BD4BF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23287-0901-4EBC-9625-DC1D7AA99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4EBF4F-211D-4517-822B-CC0382AF3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7BBD7-0BEE-4DE3-A122-5D0AC29AB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DFBF3-7F96-417E-AED1-345C1B6B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94770-BCDF-431A-9F12-CE02BD34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505B4-48D0-48E6-B040-502F1CA3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1D1FA-4FCE-4ADE-9B32-7AF17CFDD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96E46-3592-49E8-BAA3-D57393A53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F5C1-8062-48EA-B885-3ACDDB758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19EDA-35E6-4895-AA81-63CBD647A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37834-DFB1-421D-900A-3DE116881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09C24-8D21-4BD3-9584-42E0A21DC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A0E55-6921-4BA3-A8DF-40390C326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F103F-736D-4C57-BA34-1905EA430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D29F3-04A9-4CD9-9DB5-689B41DDB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DD711-5B77-4007-B81E-7730805C0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929F7-F5D6-47A9-B045-4527330C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49BA0-078C-4E3D-A5A7-B75FC153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382AD-8016-4FFF-ACA0-07D90F1D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88F4-962C-4606-A214-6CB08E19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8F392-6623-4C9C-B342-B7B2B9AFA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4F213-64FF-46A9-B069-70A4BAB1B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4712B-C271-41E1-8E53-67792FEA7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27A1-482B-4C36-A5E9-6FFCC83D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760C-30B8-4FA1-97D5-3028A3EA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727CA-0963-4292-A012-5FA9DC03D35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950AD-2015-4F85-9B10-2823DBB75AE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2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4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5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7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9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D54E1-6B7C-4344-94E7-1651E9288DE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2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4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B2777-5362-4F72-92E9-E898BAD1DE4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8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18B01-8C39-499F-96D7-B3D86B62A2E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9CD50-529A-4A73-B2E1-05390A7BD6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Credit Valley"/>
              </a:rPr>
              <a:t>Karla Cristal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Credit Valley"/>
              </a:rPr>
              <a:t>Brett Grays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Credit Valley"/>
              </a:rPr>
              <a:t>Rosalinda Ramirez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Credit Valley"/>
              </a:rPr>
              <a:t>Rachel Sanchez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redit Valley"/>
                <a:ea typeface="Meiryo"/>
              </a:rPr>
              <a:t>Classroom Management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redit Valley"/>
                <a:ea typeface="Meiryo"/>
              </a:rPr>
              <a:t>with ESL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he Key to a Great Clas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Use consistent, explicit instructions and praise any attempts to communicat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peak clearly using the normal rhythm and patterns of English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Use repetition and non-verbal support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Observe and interact to ascertain how much the student understand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llow students time to tune into English – they will understand more English than they can articulat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304560" y="1295280"/>
            <a:ext cx="83818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Model correct structures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Focus on the script if the student is not used to the Roman alphabet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Promote links between the school and home – this can be of great benefit to students, particularly if they are geographically or ethnically isolated or if there is only one ESL student at the school.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8" name="Title 1"/>
          <p:cNvSpPr/>
          <p:nvPr/>
        </p:nvSpPr>
        <p:spPr>
          <a:xfrm>
            <a:off x="914400" y="76320"/>
            <a:ext cx="77724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he Key to a Great Class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3048120" y="419112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75960" y="1752120"/>
            <a:ext cx="4343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e all know students who are interested in the lesson rarely interrup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So how can you organize your lesson plans to improve the management situatio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What’s the relationship betwee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Classro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Management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&amp; Clas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Organization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4216320" y="1600200"/>
            <a:ext cx="4913280" cy="5257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c4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609120" y="281952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518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eacher speaks most of th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tudents expect the teacher to lead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eachers constantly pass judgment on student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2040" indent="-453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is strategy may work but it’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aramond"/>
              </a:rPr>
              <a:t>exhau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1" lang="en-US" sz="3000" spc="-1" strike="noStrike">
                <a:solidFill>
                  <a:srgbClr val="000000"/>
                </a:solidFill>
                <a:latin typeface="Georgia"/>
              </a:rPr>
              <a:t>The Old Way” – Teacher-domina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2362320" y="1219320"/>
            <a:ext cx="4381560" cy="21906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304560" y="1447560"/>
            <a:ext cx="8839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511920" indent="-51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tudents work individually or in pairs/small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Maybe even on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distinct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tasks and project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eachers relieved of the necessity of constant super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udents feel a personal sense of relevance and achiev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1" lang="en-US" sz="3400" spc="-1" strike="noStrike">
                <a:solidFill>
                  <a:srgbClr val="000000"/>
                </a:solidFill>
                <a:latin typeface="Georgia"/>
              </a:rPr>
              <a:t>The New Way” – Learner-center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5334120" y="2895480"/>
            <a:ext cx="2895480" cy="216720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1386000" y="2876400"/>
            <a:ext cx="3262320" cy="2152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228240" y="1523520"/>
            <a:ext cx="8915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tudents pay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ttention and learn better from one another when their performances and processes of negotiation of meaning are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ore closely adapted to one another’s level of ability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tudent-driven activities are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preferable for every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-432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roup work is especially effective because ELL-students’ are often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hesitant to speak in large setting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So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why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should teachers use “The New Way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2905200" y="2781360"/>
            <a:ext cx="3333600" cy="209556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3T01:54:47Z</dcterms:created>
  <dc:creator>Rachel Sanchez</dc:creator>
  <dc:description/>
  <dc:language>en-US</dc:language>
  <cp:lastModifiedBy>Irving ISD</cp:lastModifiedBy>
  <dcterms:modified xsi:type="dcterms:W3CDTF">2009-04-14T18:22:38Z</dcterms:modified>
  <cp:revision>19</cp:revision>
  <dc:subject/>
  <dc:title>Classroom Management with ESL</dc:title>
</cp:coreProperties>
</file>