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6D09-F4B4-4EE5-9C9A-B3CC8FDF6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6114-92CB-4414-B717-93E0A4D3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77F4-451F-441E-A2E0-16A2EE64C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86FC-5000-47AE-BBDD-D9421596C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B7D4-08D8-4A0C-A671-D34671C5F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861B4-9378-491D-9602-B8E798B1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2EDA6-171D-4465-B4FE-688BF859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6E50-1504-4173-80EE-894016A0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EEDC-3F01-4DB6-97BF-5C562031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ACBA-DBD0-404E-BF77-04C9ADD5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F322-5D09-40A9-9FA7-D4C3F956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71DC-A51A-41AB-8B2A-12CE3836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12C43-4B22-4AE1-9AFF-B3AE4EAE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8169-7152-4D4A-8379-B4C4C8BF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B6BCA-2826-42CC-A14E-F16C8E3A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3141-F6EA-4115-BB6E-572C7F718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9A07-DC4C-492C-A584-3B8F9C0E3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33ACB-A94B-4D73-94BA-964E40A4B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52BFE-78B5-45FA-B1F6-B3E5AEF1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BE8D8-290C-4897-8FB5-4C740F88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86065-B096-4CE0-B6C6-2FEDB152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B599E-2FCE-453A-A296-EEBD4612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D7C8-766C-4C03-AF40-1AEC5267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CEB9C-147B-465D-AB5E-3053490E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F38ED-B7C9-4EE1-B164-B3C3B29F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C4BA5-972C-49E0-9630-4DE2B1BA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CC16C-B49B-4DB4-9C96-495824C6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15878-D31F-41E2-8AAE-78ADD815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9751C-3898-4043-8A11-204837310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8690B-9AAB-4E40-90D6-2547CBD18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8B02D-9420-4A8D-8897-C4FE2A0EB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4AB02-FF69-4E97-8633-CF093B32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4A6C2-B082-463D-B997-64B4E585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3B6E-4DF3-4095-B223-69CE35A8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C0DB7-92B8-494B-AAF1-89F122F4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611CE-2BBB-4AA7-83EC-BC0D2CE1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6FD16-B2D2-4F26-A926-3F785CB7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A1E33-1977-490A-8E7E-0E7947CC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7C969-FD67-4C7E-A689-BF9A9C98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0D125-8261-4DF5-825E-A245E8C3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DD092-BDCF-4C53-9C67-3C36B069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C667A-A96A-4A53-98AC-DDCA3FD14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13C9B-8D6D-4BAE-85B1-58E0B9C0C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C62D1-5BD0-4F58-8A55-6D337CF3E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0555-2C73-456E-A58C-4C350A4A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F9D9B-82EF-41D4-A705-304D04C1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04FFE-2603-48F4-B252-2266663B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152D6-620E-4AB8-B456-EDDD1AF4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B9B47-7985-42DC-8520-2DD8B668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8CD24-CFC8-4093-B28C-5AEF2327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2CE6E-F62D-44A8-9BCA-F4E27490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4F3BA-4DD2-4778-ADD4-4299BB2B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257A4-573C-4D39-B60D-A246B8FA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2B807-22BA-4E23-A275-F144AAC8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79795-133B-4B90-92F9-E9B404E5D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16F9-1455-41DC-9F41-B903F58A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0C653-9DB8-4A3E-BA6B-6AF1D0CBE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7BB49-2157-4AFC-A893-D766E6751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73912-E0B3-44AC-864D-EB2DACF8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45AD9-4B30-4BFA-A105-784114EA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15190-BB74-419A-B059-1C62E955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54FA1-97BB-4FC2-AAB8-17E0BFD5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8D402-FA72-4652-8A39-F56AF1F9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7B30D-7E9F-4964-8382-29852C3F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65A71-5956-45CA-959D-6CFF731E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FAAC1-7D1D-4218-8986-5544ACD4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7AF5-5545-4EBF-B027-33D895BE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38603-3C31-413F-B626-D772D5FA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117E4-EDD4-4A2F-9041-F6921E2DC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57B12-EECD-4197-B259-26AC40839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D3D0-B1EA-4624-BCAE-21AE12F8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B667-C123-4B4D-810C-BCA98057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9463-17C4-4E6C-93D7-E8C95D16ADB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D824-ABDE-4B02-B9E4-60029A01011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4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5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7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DCDC-7702-4A0F-99AF-863E7577CC4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DA71-009F-4C9E-98E9-A18FE7860E6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8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300B-CA66-42EC-89E8-7E8A7CF8802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B617-9691-4656-A7AD-0BEEC58E2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Credit Valley"/>
              </a:rPr>
              <a:t>Karla Crista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Credit Valley"/>
              </a:rPr>
              <a:t>Brett Grays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Credit Valley"/>
              </a:rPr>
              <a:t>Rosalinda Ramirez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Credit Valley"/>
              </a:rPr>
              <a:t>Rachel Sanchez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redit Valley"/>
                <a:ea typeface="Meiryo"/>
              </a:rPr>
              <a:t>Classroom Managemen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redit Valley"/>
                <a:ea typeface="Meiryo"/>
              </a:rPr>
              <a:t>with ESL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he Key to a Great Clas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Use consistent, explicit instructions and praise any attempts to communicat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peak clearly using the normal rhythm and patterns of English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Use repetition and non-verbal support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bserve and interact to ascertain how much the student understand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llow students time to tune into English – they will understand more English than they can articulat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04560" y="1295280"/>
            <a:ext cx="8381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Model correct structures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Focus on the script if the student is not used to the Roman alphabet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Promote links between the school and home – this can be of great benefit to students, particularly if they are geographically or ethnically isolated or if there is only one ESL student at the school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8" name="Title 1"/>
          <p:cNvSpPr/>
          <p:nvPr/>
        </p:nvSpPr>
        <p:spPr>
          <a:xfrm>
            <a:off x="914400" y="76320"/>
            <a:ext cx="77724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he Key to a Great Class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3048120" y="419112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75960" y="175212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e all know students who are interested in the lesson rarely interrup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So how can you organize your lesson plans to improve the management situ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What’s the relationship betwee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Classro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Management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&amp; Clas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Organization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216320" y="1600200"/>
            <a:ext cx="4913280" cy="5257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4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609120" y="281952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eacher speaks most of th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tudents expect the teacher to lead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eachers constantly pass judgment on student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-453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s strategy may work but it’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exhau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1" lang="en-US" sz="3000" spc="-1" strike="noStrike">
                <a:solidFill>
                  <a:srgbClr val="000000"/>
                </a:solidFill>
                <a:latin typeface="Georgia"/>
              </a:rPr>
              <a:t>The Old Way” – Teacher-domina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2362320" y="1219320"/>
            <a:ext cx="4381560" cy="21906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tudents work individually or in pairs/smal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aybe even on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distinct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tasks and projec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achers relieved of the necessity of constant super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udents feel a personal sense of relevance and achiev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Georgia"/>
              </a:rPr>
              <a:t>The New Way” – Learner-center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5334120" y="2895480"/>
            <a:ext cx="2895480" cy="21672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386000" y="2876400"/>
            <a:ext cx="3262320" cy="2152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228240" y="152352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tudents pay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ttention and learn better from one another when their performances and processes of negotiation of meaning are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re closely adapted to one another’s level of ability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udent-driven activities are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preferable for every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432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roup work is especially effective because ELL-students’ are often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esitant to speak in large setting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S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why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should teachers use “The New Way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2905200" y="2781360"/>
            <a:ext cx="3333600" cy="209556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01:54:47Z</dcterms:created>
  <dc:creator>Rachel Sanchez</dc:creator>
  <dc:description/>
  <dc:language>en-US</dc:language>
  <cp:lastModifiedBy>Irving ISD</cp:lastModifiedBy>
  <dcterms:modified xsi:type="dcterms:W3CDTF">2009-04-14T18:22:38Z</dcterms:modified>
  <cp:revision>19</cp:revision>
  <dc:subject/>
  <dc:title>Classroom Management with ESL</dc:title>
</cp:coreProperties>
</file>