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EFD-14A9-4FC0-9143-E772DB32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407-303C-40FF-AA8E-3452BC0E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4EF-C01A-42EE-8E72-CDF4811A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CAE-F88E-46A3-85AB-BF105B49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F2DD-2E7A-47C1-BE85-145345BC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D71A-AE52-4512-AA2F-CBD65951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CFF7-2746-4089-90F5-046E9EF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C395-79BA-4848-9547-6756E852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296D-8BE3-4F32-A8E3-D2675CF0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FCB9-C0AC-4210-9709-2537E689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DC40-31F6-4846-8516-616C115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C3B-D757-4242-BE91-6A9A67E1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C41A-506F-4DA1-97D1-016CAF25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F24F-8A57-4258-9E54-4855B3A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AF1B-B74E-4485-8566-9891FF54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C23E-03B6-4CC5-859D-3CCB548E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B678-F5EF-416D-83C6-3A3A6848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B43F7-695F-4BE2-9172-71B15DE5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19FC-1E81-450C-8FC6-0C34E36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3016-3195-42A2-AB12-40E2D6D9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CBF7-60EC-4471-ACAE-87CF519F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471F-90FC-4EC0-8B6A-E8630EE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8C0-EEAD-4AC2-A4B4-D9B18F5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A53D-2930-4D0A-B9EE-04C43232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CF293-905F-4C4C-8B46-A1CD6AD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EF04B-FAE8-4A4D-B0B4-A0B8F8A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719B-78F0-406B-BE13-F7413B08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664B-7F85-42A1-A197-045C42F5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D614A-C2B7-4A8E-ABAD-EB8350FC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8852-200B-46A4-A3B2-12643503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18F4-46B3-4FA3-A523-4409380E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F99F-1B18-4E37-AFDE-F467C15F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DD1E-C6B5-4028-A288-8216A60F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C22-E5DE-4AAB-B234-8EEB6653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21B1-0E88-447B-8EB8-8A9717CF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4E403-CB26-43B7-872B-A41FCA76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DF514-FF1F-419C-A9D5-4CBA0CE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3110-76D0-40D8-8556-82ADB15F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E075-1557-4A88-A903-0EEA65DA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73406-0016-4F29-A6F9-53C093E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36E53-828C-4D36-AE42-DFF2ACB0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B0B50-ADBA-4A73-B86B-18C33D49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1B82-F4D0-4A53-AF50-A7ECEF63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AFD45-032A-4B0E-BC46-4499E1FC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FE0-67CC-478B-B802-DC298AC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05104-D790-46B2-B18E-FF12AFEF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A3C7F-D0F2-40A0-B6AC-8F1DE508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70FE6-5815-44A9-8EDC-D0793CA8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A0E9D-582F-4281-AD3E-DEADCFD3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5B5D1-6996-463E-B724-1D0B1DA1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5002F-2F1D-469E-9F02-63531AC6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95A9E-EBBF-48B9-B2F9-3FCF192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532F3-D378-45D4-8A58-AC5CF432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998B4-F348-4FDD-A516-71167D89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B26A8-C93F-4236-A736-ABDF5AE3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C4B-0ACB-4527-BC4E-FCFDC764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D8640-5EE9-4B69-A856-C490D096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09B1-72F8-4BA3-BA88-0BA18E7C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1BB72-5E49-45AD-8402-2D04DB1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2AC4-5605-48CD-8249-A9E249DF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0850-BC5A-4E87-8C80-AF3B3664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CBC64-9B7A-48CF-AF3E-6FC62125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93EC3-A830-4140-8BD9-FDD9F5F8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9E65-7953-4AE7-B1F6-1DC885C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2ADC-C6D4-4D47-838A-05E35277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FDCC6-C82A-45A2-89D2-B09531FE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707-18EF-4C96-B07A-B1D928F4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8709A-3960-46E6-84E6-DABDF80C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FEA6E-39B1-4603-8155-AF0C9134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35CB7-2A30-4986-B763-33DB0132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010-3FC3-4778-8847-80BA408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441-BB23-4D49-A38E-CD0E447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77BA-3BB8-4FFF-9433-D52253C00B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2366-1598-422C-9696-733F9C6B04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1B86-BCA8-4D6C-A036-20655E6849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455-CE3C-422D-9A40-87F1BB06AFA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57E-2191-4117-96D2-DF8207AADF7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93D6-1768-45D5-9708-569BBAB5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Karla Crist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Brett Gray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osalinda Ramir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achel Sanch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Classroom Managem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with ES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consistent, explicit instructions and praise any attempts to communic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ak clearly using the normal rhythm and patterns of Englis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repetition and non-verbal suppor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e and interact to ascertain how much the student understan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 students time to tune into English – they will understand more English than they can articu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5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el correct structur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ocus on the script if the student is not used to the Roman alphabe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romote links between the school and home – this can be of great benefit to students, particularly if they are geographically or ethnically isolated or if there is only one ESL student at the schoo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9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all know students who are interested in the lesson rarely interrup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 how can you organize your lesson plans to improve the management situ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’s the relationship betwe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ro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nageme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&amp; Cla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rganizatio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216320" y="1600200"/>
            <a:ext cx="4913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120" y="2819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 speaks most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expect the teacher to lea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s constantly pass judgment on stude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strategy may work but it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ha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Old Way” – Teacher-domin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381560" cy="2190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work individually or in pairs/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ybe even o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asks and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relieved of the necessity of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feel a personal sense of relevance and achie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The New Way” – Learner-cente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86000" y="2876400"/>
            <a:ext cx="3262320" cy="215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udents pa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tention and learn better from one another when their performances and processes of negotiation of meaning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 closely adapted to one another’s level of abilit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-driven activities ar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preferable for every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 work is especially effective because ELL-students’ are oft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sitant to speak in large setti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should teachers use “The New Wa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5200" y="2781360"/>
            <a:ext cx="3333600" cy="2095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54:47Z</dcterms:created>
  <dc:creator>Rachel Sanchez</dc:creator>
  <dc:description/>
  <dc:language>en-US</dc:language>
  <cp:lastModifiedBy>Irving ISD</cp:lastModifiedBy>
  <dcterms:modified xsi:type="dcterms:W3CDTF">2009-04-14T18:22:38Z</dcterms:modified>
  <cp:revision>19</cp:revision>
  <dc:subject/>
  <dc:title>Classroom Management with ESL</dc:title>
</cp:coreProperties>
</file>