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60A-BE8A-431C-BAD8-CDEF29AC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C05-52D7-44FC-A822-5550798A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AA1-3900-4990-B768-5AC4B81C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8B9-271A-4660-96B3-69EFED48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2886-5A43-403F-BC89-07E0E503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C88D-A92C-4CB5-ADE6-AA702661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FBB9-476C-4A11-BE26-EB78A642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A399-9BE9-4318-959B-D03FA311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FD9D-3B15-4B4F-8D53-F5A42FB4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F7F7-5645-4AAD-9600-E70FE002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0122-9581-4377-8C4A-D628FDB1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EDA-CC01-4775-8F25-AE5C7A47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3985-4154-4FA9-864E-79BD9482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1F29-24A6-4777-ACCE-3F474706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F4B7-FACB-4739-8F54-7AEC7B29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C4E6-EBBB-4F4B-9B2D-5D86A3F5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877D-6A7E-4B37-9BA8-7382A2A3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CD48-5B80-489C-AFAA-93317D24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4A0BE-0165-497C-9102-D9CB3DCA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8C1B1-1E54-450F-9AA5-028AFE4F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9EA47-A882-44EA-BD76-2EE02E12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0011-5C30-46F8-8839-8219F38C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5B8-B0CC-418D-A860-5CFD095D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031C8-A6F1-4AE6-B1F1-BF33B4ED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E965-1248-4A1C-8508-CCCA6DB1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48CF3-18A0-481D-8781-32E17121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4C68-AAEE-4233-AD28-0E0B3591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22262-D094-4B18-B1AE-673C9BF5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16FD-7754-4403-90F7-B88194F7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6A46-0876-404F-A825-5624451F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7AE1F-0B94-4B83-A427-AEA569EB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6FFD4-1F0B-4E44-AC80-3BB771A6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DC1B-3202-4BB1-8006-54DB4E6F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FC8-09C5-4554-A4CF-397379AC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AC12E-35AF-41CC-B651-58F271EC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C363A-0AA5-42F8-89AC-3B557886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6E23-B690-411A-BC67-68474E41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4231C-01F9-4DA0-8CEF-3665AB58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CFF79-744B-402E-9862-3FCE0EF7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67C0A-6EEC-4AE2-8D4F-E9251FB0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DFA02-6085-40AE-A1B0-93FCC499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D758A-C5DE-4EA2-87CE-F8BC79B8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059B7-50DE-4086-B90E-36F15250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A1808-BC6F-4AF8-BC8E-D126969D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59A-286E-4E8B-9448-A6EE6F99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55C14-873E-4F9B-96B6-CC7D2898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075CB-B4E0-4922-B54E-182A427D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5256C-4E56-4BC8-BB80-9D6DBFF6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32BEA-2570-4183-B4C4-82846E87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130A2-BDCA-4420-BECE-EC4A8F07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76359-7FD7-4C93-9A58-780BBEA2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62009-5283-42BD-934C-7101EDB5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ADFB2-E1C9-4507-B2AB-CC91A026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A5A27-174A-4CAA-956F-38A96976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30ED4-833E-4EA9-ADC5-E45DF0F4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0A0-2423-4714-911A-4EF22621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5119-47DD-47D1-9F64-5C60069A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BE802-43EE-4121-9C21-F511E013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C4E37-86DE-4435-BFF2-E7C5A229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B481C-4EEB-4AC6-B044-D0CED169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3DD72-E32D-4D96-ADFA-DD8E529F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7F661-2C37-4CB6-B8B1-8BA27877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9689E-9A4D-4C28-8B2A-14D541D8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6A2C0-A402-4314-92D2-4728E801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0B929-AA9A-4B96-80D4-FB49CC0A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FA787-E1B8-4E7D-B763-1F596205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3D5-36B7-433A-9987-1E46282F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A6071-6A92-49AA-8E61-768719A9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D223D-608D-4A88-88BD-F4C85CA6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0CEDE-DB81-4831-85AD-D16506AC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290-5612-4AC0-8154-66D5F1A8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7DE-0202-4F17-9884-C028011F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C2A2-7913-4D0B-917E-E92AFCDBCC7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8821-75F6-4EE2-B644-8A42C7EF8E2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A2BA-E177-47E7-94EB-FAE5A0627FE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B0E7-D9BE-441C-85D9-EBF2DDA780E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9B06-76A0-4BA8-A0A3-415A4F242E1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C553-C52F-41D0-BD57-3905805EF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Karla Crist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Brett Grays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osalinda Ramir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achel Sanch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Classroom Managemen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with ES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consistent, explicit instructions and praise any attempts to communic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eak clearly using the normal rhythm and patterns of English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repetition and non-verbal suppor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bserve and interact to ascertain how much the student understand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ow students time to tune into English – they will understand more English than they can articul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04560" y="1295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del correct structur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ocus on the script if the student is not used to the Roman alphabe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romote links between the school and home – this can be of great benefit to students, particularly if they are geographically or ethnically isolated or if there is only one ESL student at the school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048120" y="41911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7596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all know students who are interested in the lesson rarely interrup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o how can you organize your lesson plans to improve the management situ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hat’s the relationship betwe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lassro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anagement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&amp; Clas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Organization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216320" y="1600200"/>
            <a:ext cx="4913280" cy="5257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09120" y="28195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 speaks most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expect the teacher to lea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s constantly pass judgment on studen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s strategy may work but it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hau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The Old Way” – Teacher-domin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381560" cy="21906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work individually or in pairs/sm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ybe even on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asks and projec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ers relieved of the necessity of constant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feel a personal sense of relevance and achie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The New Way” – Learner-cente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2895480" cy="2167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386000" y="2876400"/>
            <a:ext cx="3262320" cy="2152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tudents pa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tention and learn better from one another when their performances and processes of negotiation of meaning ar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 closely adapted to one another’s level of abilit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ent-driven activities ar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preferable for every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oup work is especially effective because ELL-students’ are ofte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sitant to speak in large setting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should teachers use “The New Wa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905200" y="2781360"/>
            <a:ext cx="3333600" cy="20955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1:54:47Z</dcterms:created>
  <dc:creator>Rachel Sanchez</dc:creator>
  <dc:description/>
  <dc:language>en-US</dc:language>
  <cp:lastModifiedBy>Irving ISD</cp:lastModifiedBy>
  <dcterms:modified xsi:type="dcterms:W3CDTF">2009-04-14T18:22:38Z</dcterms:modified>
  <cp:revision>19</cp:revision>
  <dc:subject/>
  <dc:title>Classroom Management with ESL</dc:title>
</cp:coreProperties>
</file>